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F27-E660-4B88-812A-38CA1F70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577-A5E6-4DAE-8D75-FA190A9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9C6-B6F6-45D5-A471-D2F17342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B36-FFC4-419D-8F22-E9333ADE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DB7-B9B4-4D3C-AD3D-15E4743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DF3-0478-4D14-8E94-ABFC7E1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CB0-212E-4861-82A7-9C9B0EFA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504-2F61-4DD5-BAA9-A105486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551-C05F-4241-80A7-7AFD64D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A11-5FD9-41F3-9C38-675FFEF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7D6-0B1E-4E32-A150-FC1C331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D3D-95B3-4733-9B98-C218897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6387C3-7168-417F-B930-FB29BFD4966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8.1.jpg"/>
          <p:cNvPicPr/>
          <p:nvPr/>
        </p:nvPicPr>
        <p:blipFill>
          <a:blip r:embed="rId1"/>
          <a:stretch/>
        </p:blipFill>
        <p:spPr>
          <a:xfrm>
            <a:off x="2481120" y="0"/>
            <a:ext cx="4181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8.1.jpg"/>
          <p:cNvPicPr/>
          <p:nvPr/>
        </p:nvPicPr>
        <p:blipFill>
          <a:blip r:embed="rId1"/>
          <a:stretch/>
        </p:blipFill>
        <p:spPr>
          <a:xfrm>
            <a:off x="2563920" y="0"/>
            <a:ext cx="4016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1:31Z</dcterms:created>
  <dc:creator>Administrator</dc:creator>
  <dc:description/>
  <dc:language>en-US</dc:language>
  <cp:lastModifiedBy>Administrator</cp:lastModifiedBy>
  <dcterms:modified xsi:type="dcterms:W3CDTF">2012-04-04T09:31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